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18A-1DE3-4BC0-B2E0-F42CAB99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122-B9DD-477F-9F25-D44B81E6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494-2107-4CF3-A5C6-9BA56804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A30-66E7-477B-984C-3EF24E50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C3C5-E4CF-4F4A-A47E-5638EE7F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8F9E-84DB-4D35-BA9D-0B756AF2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F10B-89A4-4275-8668-A841AF64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7174-C957-42CD-AA3B-A7E9EEA9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D1B5-4683-4024-B2D4-860C2F32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7631-8018-43A9-90AD-956EF836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46C1-390A-4E5B-8134-9C7C6F66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039-22AF-463B-9381-E332D4F4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E6D9-42D9-4A4F-AD26-887AE21C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5B95-B860-4897-B1D2-3DD7C537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1FD3-E2CF-4832-83ED-33EDCD36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11E1-228B-43F6-ADE9-F8B1A2FD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660F-ABA2-4B08-81D3-3714089D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0EC-6BA7-48EE-97E0-E2ED0BCF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4A9-FFBC-434A-8D2B-F82F2E7A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7E8-D4B3-42EB-B2D2-C8023B65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3C7-C3D9-4D3A-B6EA-760A0ED3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6F4-C6EC-4C4A-87AB-63F6D6A2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2E6-14D4-41A2-B30C-1522437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303-39B7-4219-87B4-881FF6A5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4727-563D-462C-AFC8-92043E4BC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6B1B-C0BB-44C5-8175-2EB67DD40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: 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7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multiplies x by 2 and subtracts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3 to x and then divides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3962520"/>
          <a:ext cx="3733560" cy="1269720"/>
        </p:xfrm>
        <a:graphic>
          <a:graphicData uri="http://schemas.openxmlformats.org/drawingml/2006/table">
            <a:tbl>
              <a:tblPr/>
              <a:tblGrid>
                <a:gridCol w="745920"/>
                <a:gridCol w="747720"/>
                <a:gridCol w="745920"/>
                <a:gridCol w="747720"/>
                <a:gridCol w="74628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267080" y="3962520"/>
          <a:ext cx="4724640" cy="1269720"/>
        </p:xfrm>
        <a:graphic>
          <a:graphicData uri="http://schemas.openxmlformats.org/drawingml/2006/table">
            <a:tbl>
              <a:tblPr/>
              <a:tblGrid>
                <a:gridCol w="944640"/>
                <a:gridCol w="946080"/>
                <a:gridCol w="943200"/>
                <a:gridCol w="946080"/>
                <a:gridCol w="94464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9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-18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-6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invers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one-to-on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nverse functions symbol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ther representations to find invers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inve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rse is a method of undoing an op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and subtraction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and division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verse of a function effectively switches the input and the 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inve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tation for the inverse of f is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(x)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(a)=b, then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=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81480" y="2971800"/>
            <a:ext cx="39625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is a one-to-one function if, when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b, f(a) ≠f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must pass the horizontal line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sentially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-to-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no two valu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 the sa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3809880" cy="2487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3809880" cy="2508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105520" y="3809880"/>
            <a:ext cx="342900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105520" y="3657600"/>
            <a:ext cx="35812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in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it is one-to-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f(x) a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x= as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(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x)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 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 few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and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of f is the range of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f is the domain of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and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 of each other across the line y=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 f(x)=4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2400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0:29:10Z</dcterms:created>
  <dc:creator>nuhs</dc:creator>
  <dc:description/>
  <dc:language>en-US</dc:language>
  <cp:lastModifiedBy>nuhs</cp:lastModifiedBy>
  <dcterms:modified xsi:type="dcterms:W3CDTF">2008-02-27T21:23:36Z</dcterms:modified>
  <cp:revision>3</cp:revision>
  <dc:subject/>
  <dc:title>5.2: Inverse Functions</dc:title>
</cp:coreProperties>
</file>